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3503-2B63-4B39-9E22-73549E71F9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    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DE20-F292-4F1D-9144-CB006677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BBA-9341-4F58-987D-7A16C12D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B28-749F-47D6-AA59-0D21F919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479-758D-472E-8DDC-4A88F93E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41EF-6E45-4A04-9A3E-2DCD01E1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C57-CA33-4572-936B-9A05BBBB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AC0-8374-4958-96FD-C4BC488D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DCA-3E08-4423-9658-D7A9B105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519-70EA-418B-AA1A-58671D6E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28BD-9735-42E1-A317-81B43873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4FA-3C43-40CC-B6DE-5D713E14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043-8F56-43DB-A237-678FB26F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C2EB-82B3-4AF6-B746-16159752D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438280" y="685800"/>
            <a:ext cx="411480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921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Brush Script MT"/>
              </a:rPr>
              <a:t>Our School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0000"/>
                  </a:gs>
                </a:gsLst>
                <a:lin ang="5400000"/>
              </a:gradFill>
              <a:latin typeface="Brush Script MT"/>
              <a:ea typeface="Brush Script M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3124080"/>
            <a:ext cx="6553080" cy="26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Brush Script MT"/>
              </a:rPr>
              <a:t>             </a:t>
            </a: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Brush Script MT"/>
              </a:rPr>
              <a:t>Done by</a:t>
            </a:r>
            <a:endParaRPr b="0" lang="en-US" sz="24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ffffff"/>
                  </a:gs>
                </a:gsLst>
                <a:lin ang="5400000"/>
              </a:gra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Brush Script MT"/>
              </a:rPr>
              <a:t>         </a:t>
            </a: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Brush Script MT"/>
              </a:rPr>
              <a:t>nathan beasley</a:t>
            </a:r>
            <a:endParaRPr b="0" lang="en-US" sz="24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ffffff"/>
                  </a:gs>
                </a:gsLst>
                <a:lin ang="5400000"/>
              </a:gradFill>
              <a:latin typeface="Brush Script MT"/>
              <a:ea typeface="Brush Script MT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819440" cy="1619280"/>
          </a:xfrm>
          <a:prstGeom prst="rect">
            <a:avLst/>
          </a:prstGeom>
          <a:ln w="0">
            <a:noFill/>
          </a:ln>
        </p:spPr>
      </p:pic>
      <p:pic>
        <p:nvPicPr>
          <p:cNvPr id="51" name="logo" descr=""/>
          <p:cNvPicPr/>
          <p:nvPr/>
        </p:nvPicPr>
        <p:blipFill>
          <a:blip r:embed="rId2"/>
          <a:stretch/>
        </p:blipFill>
        <p:spPr>
          <a:xfrm>
            <a:off x="7324560" y="0"/>
            <a:ext cx="1819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90920" y="380880"/>
            <a:ext cx="44193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Brush Script MT"/>
              </a:rPr>
              <a:t>Our teacher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Brush Script MT"/>
              <a:ea typeface="Brush Script MT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971800"/>
            <a:ext cx="7924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s Williams         mrss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stone               miss at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s Harper            mrss Math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 robins                 mrss Di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s Robinson         mrss 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Tho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514600" y="228600"/>
            <a:ext cx="3657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ur da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514600"/>
            <a:ext cx="39625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e do hand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e do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e have break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break do 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dinner and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science or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art. Then finally ho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200400" y="762120"/>
            <a:ext cx="245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In our school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21337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ur school we hav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mony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9:00:39Z</dcterms:created>
  <dc:creator>Glenboi</dc:creator>
  <dc:description/>
  <dc:language>en-US</dc:language>
  <cp:lastModifiedBy>Glenboi</cp:lastModifiedBy>
  <dcterms:modified xsi:type="dcterms:W3CDTF">2009-09-30T09:04:58Z</dcterms:modified>
  <cp:revision>1</cp:revision>
  <dc:subject/>
  <dc:title>PowerPoint Presentation</dc:title>
</cp:coreProperties>
</file>